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7FCE-79E2-45AC-82FB-B8B7D23EE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C646-0C03-481E-AB8B-B95021989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7AC-43B2-4BC7-82C4-494BCE2B3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772-325A-454F-9FCD-2FDB2CF15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1ED-DA38-43A8-BD56-340CE5593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4A95-3268-4A95-8966-27A79FABD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BD0-36BE-45F0-912E-94044F6C3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F5D-76CA-4FC9-AF04-859EBEB14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6DB8-6DFD-4544-B45A-EBCD16B90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491-E74F-4291-9815-3CAEAE1D0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386D-275E-448F-9869-5A4388022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DD7-5BDF-410B-AB70-CECB97A9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4EE-2E55-4FD3-B2FD-3126458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6167A-C68F-4473-ADC4-98E747F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F7215-A94A-4562-933D-2E4E3DB9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33522-B84C-44DF-8E03-AF4CA1C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A5E3C-A839-44BF-B640-EE46F68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DBD99-C32D-4734-AC60-4D0B97BA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80AF4-489C-4719-AC36-5AC7073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D8A3C-AC96-4D7E-8FCA-E5C78DD4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F1F1C-D3A0-4C72-A8AE-AFE4CB76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92245-E439-41ED-8EAA-A87A47AB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92C86-00E9-4825-A53E-B7024EE8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66-6ECD-406A-96FB-6548E987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22A6A-A2C0-42DF-9F65-A59EB7C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6C9DC-253D-4188-AD79-67C73264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AA494-FEB7-477C-969E-93437ED5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9C2B5-0C21-477F-9B92-50CB334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56430-0C6B-4CC0-8770-7FBEBC7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6E3C7-F300-44FF-898D-6A94694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D6C39-7E53-454A-B709-AC1039F4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A421-0CF7-449C-B582-51B2B9FA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CCC10-BB64-43F4-A67F-863B8AD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56565-DE31-4E11-AF16-09FA21AB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813-77C7-44B3-9447-AD3D56A1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2A2B3-F9D8-4AE0-BCBE-CA59221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7368E-0464-4ECA-8F1F-B57475F8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7BCD9-0DE2-4DF0-8885-75126FC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EDC7-CA93-4311-B41E-F7756203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02D7-D9BB-4F1C-BE17-1CDE214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DA964-2BAD-4BB4-9CFC-96D08F34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0570E-C348-43A6-ADD4-034F93C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00A08-90C1-46F3-A10A-613AE92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25D7-1B7B-4766-BF9F-4A28377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3ADB-7C01-4037-9808-1DB32DD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4814-37C6-4EA4-BBF2-D80EB4AD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ADFCC-1E4C-4855-ADC8-509D03E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7A2F0-C4F0-4A04-974D-BCECD5B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7399F-415C-4EAC-AD4E-B125A764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4E362-A938-44E7-A806-6950830C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B9F12-E00A-435D-9FB5-0C495800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777A0-70E5-4E1D-AA9C-9346736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428E-9566-4364-839E-DA6BC695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3C3EF-4DDC-426D-9951-CDBF0B06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04DE0-2698-4D5D-B07B-515441C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6EF95-43F8-4EC0-A92F-6226282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E89E-9A80-4E78-A1E6-4F6324A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437AB-EC29-41A9-8905-33FC754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B150-44B0-42B9-B0DA-50ACD0C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8E62-823F-4C47-91BA-06C1FBD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66E4A-1A8E-4D55-BFC5-72CD4BF3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1C211-7109-40BE-BD15-DD227B3A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CD6-6870-47C5-A21A-676D7C1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D790-14AF-4599-BC36-54D9962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598-8636-4C4E-A88C-541A417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7B1E-923C-4EB4-BD06-9C7E8FD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956-9866-4538-9DAC-70E7287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C53-CFB1-4554-A45C-E543F508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5E8-9328-4100-B618-410DC6C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3506-6A8F-4026-9831-7B5AB625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9875-ADF3-4A94-9BFB-D303411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9F5-3062-4A8A-93A0-64A640DE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E380-B0E8-4AD0-8668-6D55E1F2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5561-EE76-4EAC-BA3A-0A13C3A9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8FD8-F1E0-4E23-9F2F-38CDAB1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12A0-2960-4EB8-98EE-8D675913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C30B-6B5E-42F6-851E-A52FE262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C7D4-4B7A-4FED-824F-93021799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7FD-AA0B-49EA-9028-26470E7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B0CE-7709-4850-ABA2-F04369B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8185-B3E3-4040-9EFF-51460B3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221E-24CA-4018-B70F-BDF0DEB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7F3A-82A4-45F8-830D-E861CC4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A7D8-ADA2-4235-B832-B24555B1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E516-A04E-4D71-A1CE-AE617BE6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8453-41A8-469E-A43B-18772212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98E5-D0C8-461D-94F5-B7E3009C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7618-562A-4B01-9481-8EB2F44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C3BC-E8AC-45A8-B311-908A62D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697-2A78-4077-A58E-0727D92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C243-3336-45AF-ABFA-56C9442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4825-BCFE-47A3-A35F-A11173A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5A8C-0478-4B5A-A1D7-215ED9E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F12B-3741-4333-820C-B1D0909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3AA1-592F-4C79-87F4-24CF7E1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9BFE-04CC-47FF-8D6D-8C152E4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FDD48-BD35-4AEB-882D-E93E3098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9995-06B5-4722-8F83-33CC10A0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E096-3171-42A8-9E36-01ACC089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6786-1FE3-4E0E-9C54-B29EEA1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ECF-53DE-4CF7-824E-D6C6B5C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67359-2E5A-4775-A76A-EC0FF22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4F89-4D9D-48FB-BE6E-551B4A95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0DF2-590B-45B2-9D2F-D03D8CA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DA9FF-FDFE-442D-9F64-3CE7E19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42F9-C4EA-4358-883B-02E05EDE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894E-6679-410F-8B7A-3102FC5D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AEB9-C9BD-44F8-982A-A1D67D2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6933-19CE-4886-A001-94B07A2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981C-2D46-4487-872E-6619E13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F06F-2D15-4BCF-857D-0CBC4015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323-157E-4502-879D-85A4A7B4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ACA7-39E7-4638-A844-B56BE31D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8A2B-F576-446E-B0CB-0185BC3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8EAAE-2954-467F-AF7D-ED97F50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A2949-56BA-4D48-AE06-EEB916B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6415-ADCF-4982-9D7F-D574779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6AB1A-60DD-4A29-846D-C7969455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53F7-B30D-4506-B715-9BAC232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5C2CD-F44E-407F-83F3-24B2608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CD3D-9E11-41AA-9FF6-53D0FAC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53F2-511E-48A8-90D1-92D0412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87-00C5-4650-BD4F-0CA4132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ADF9-1DD4-454E-B951-C460D15D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5C62-1830-493F-BA37-86E40DDE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ACB9-9540-4A0B-8B01-756259FD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2568-FD75-4FFA-8770-AFB29E53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7328-64DD-49B7-A5C0-C21C571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E8A1-016E-48DF-8EBD-DDB572E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43D14-8C61-4C95-BCDC-DED3AEA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4218-49A4-47FB-AC6F-7556FBD1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4FFDD-9113-40EE-B724-488E9F8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6EE5-5163-40AC-9907-37004E0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0B1-8096-436F-A0AC-3FC38D9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FEC8-C550-4DFD-8623-C13F01DC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6477-9AC4-423D-AEF3-258F4AE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E1E8-6265-456E-B8E9-DFA4B3E8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44F2-0DAC-4216-A434-77B95C52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B4DC-DE21-4C9B-887F-93FA9A33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5B290-44AF-466A-A133-88D7D49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EA75-8ECD-469E-984B-CEC2127D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B61B-70D2-42F6-B209-C736526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779C-D848-4A12-9C26-8205C553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82D8-C496-40B7-87B0-CE0DBF24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50D-D92A-4BAA-BDF4-51BCACB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9DC9-692D-4A11-B24E-2B01596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BD54-BB37-43F9-B77B-058516E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BCC3-9507-4697-8758-C4FDD60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24C5-B2E5-442C-BB91-131F2801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8864-C735-4C1C-B511-1E6A782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0075-2B1A-4262-BEB3-689A6E4E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E421-4F03-4EB8-BD7A-7B8FC6B5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030D5-A42A-4EC2-8629-11F9FCF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1EF44-00FC-40F8-8960-9C53E8B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9327-CBFF-45FB-A952-E5E670D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79C-C63F-4F0B-9100-CF5CF497AD06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578-AA86-40EE-9C56-09C6C3300181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BC10-711E-4AA1-8859-A2E007732E42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9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1A41-56D5-453E-A728-7B9FD6B570CC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CDB-5FB5-4B92-9605-81777190D0E8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2FC-83D2-48B4-A80D-23428AFC8113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9425-893D-40FE-9105-B65F392F9DC9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5D5-47E0-4022-8CF2-8D390A345CED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89E-D72C-4991-BCB2-0240673C3C1F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38B0-93FB-46D8-A2C7-4B3B108382D3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FAD-8A4E-4368-A410-812C33D220B1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A883-BACE-4673-A2AB-1ABF1F62EC78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Candara"/>
              </a:rPr>
              <a:t>ОРГАНИЗОВАННАЯ ОБРАЗОВАТЕЛЬНАЯ ДЕЯТЕЛЬНОСТЬ ПОДГОТОВИТЕЛЬНАЯ ГРУППА (6 – 7 лет)                                                                          «ЖИТИЕ СЕРГИЯ РАДОНЕЖСКОГО»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3333ff"/>
                </a:solidFill>
                <a:latin typeface="Candara"/>
              </a:rPr>
              <a:t>Шулянова Л.Д., воспитатель,                                                                                                            МБДОУ «Детский сад комбинированного                                                                             вида № 38  «Малыш»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города Губкина Белгородской област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3" name="Picture 6" descr="C:\Documents and Settings\User\Рабочий стол\сергий\9963_t.jpg"/>
          <p:cNvPicPr/>
          <p:nvPr/>
        </p:nvPicPr>
        <p:blipFill>
          <a:blip r:embed="rId1"/>
          <a:stretch/>
        </p:blipFill>
        <p:spPr>
          <a:xfrm>
            <a:off x="3733920" y="2362320"/>
            <a:ext cx="1457280" cy="190476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оугольник 4"/>
          <p:cNvSpPr/>
          <p:nvPr/>
        </p:nvSpPr>
        <p:spPr>
          <a:xfrm>
            <a:off x="2286000" y="44956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Родину, и ценности ты получаешь в дар от предшествующих поколений. Ценности живут в духовных традициях. Вне традиций они погибают, словно растение, которое выдернули из почвы.                                                                                        Протодиакон Андрей Курае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Благословление Дмитрия на Куликовскую  битв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76440" y="2057400"/>
            <a:ext cx="3822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ного сил приложил Сергий для того, чтобы объединить князей  земли Русской. Он вошел в историю Руси, как святой, который благословил князя Дмитрия Донского перед Куликовской битв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8" name="Picture 5" descr="C:\Documents and Settings\User\Рабочий стол\сергий\3885212-c6d0fff467144d9e.jpg"/>
          <p:cNvPicPr/>
          <p:nvPr/>
        </p:nvPicPr>
        <p:blipFill>
          <a:blip r:embed="rId1"/>
          <a:stretch/>
        </p:blipFill>
        <p:spPr>
          <a:xfrm>
            <a:off x="4648320" y="2057400"/>
            <a:ext cx="382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Троице – Сергиева лав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роицкий собо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22" name="Picture 6" descr="C:\Documents and Settings\User\Рабочий стол\сергий\i.jpg"/>
          <p:cNvPicPr/>
          <p:nvPr/>
        </p:nvPicPr>
        <p:blipFill>
          <a:blip r:embed="rId1"/>
          <a:stretch/>
        </p:blipFill>
        <p:spPr>
          <a:xfrm>
            <a:off x="4724280" y="2438280"/>
            <a:ext cx="3810240" cy="3484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F:\сергий\original13409017290.jpg"/>
          <p:cNvPicPr/>
          <p:nvPr/>
        </p:nvPicPr>
        <p:blipFill>
          <a:blip r:embed="rId2"/>
          <a:stretch/>
        </p:blipFill>
        <p:spPr>
          <a:xfrm>
            <a:off x="762120" y="213372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2141280"/>
            <a:ext cx="32004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Храмы Губк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7464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ображенский Кафедральный Собо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Храм в честь иконы Божьей матери «Всех скорбящих Радост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88" name="Picture 4" descr="C:\Documents and Settings\User\Рабочий стол\сергий\sobor.jpg"/>
          <p:cNvPicPr/>
          <p:nvPr/>
        </p:nvPicPr>
        <p:blipFill>
          <a:blip r:embed="rId1"/>
          <a:stretch/>
        </p:blipFill>
        <p:spPr>
          <a:xfrm>
            <a:off x="674640" y="2895480"/>
            <a:ext cx="3135240" cy="3276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Храм во имя брата Божьего Иако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0" name="Picture 6" descr="C:\Documents and Settings\User\Рабочий стол\сергий\post-117061-1261596405_thumb.jpg"/>
          <p:cNvPicPr/>
          <p:nvPr/>
        </p:nvPicPr>
        <p:blipFill>
          <a:blip r:embed="rId2"/>
          <a:stretch/>
        </p:blipFill>
        <p:spPr>
          <a:xfrm>
            <a:off x="6172200" y="2209680"/>
            <a:ext cx="2362320" cy="16765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F:\сергий\16871_20110722_021756.jpg"/>
          <p:cNvPicPr/>
          <p:nvPr/>
        </p:nvPicPr>
        <p:blipFill>
          <a:blip r:embed="rId3"/>
          <a:stretch/>
        </p:blipFill>
        <p:spPr>
          <a:xfrm>
            <a:off x="6114960" y="4800600"/>
            <a:ext cx="247644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Родители Сергия Радонежского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723920" y="2514600"/>
            <a:ext cx="38228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н родился в семье ростовского боярина Кирилла и его жены Марии.                                   При крещении мальчик был назван Варфоломе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94" name="Picture 5" descr="C:\Documents and Settings\User\Рабочий стол\сергий\3840014-64fd917687764d57.jpg"/>
          <p:cNvPicPr/>
          <p:nvPr/>
        </p:nvPicPr>
        <p:blipFill>
          <a:blip r:embed="rId1"/>
          <a:stretch/>
        </p:blipFill>
        <p:spPr>
          <a:xfrm>
            <a:off x="838080" y="2209680"/>
            <a:ext cx="3429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2860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огда мальчику исполнилось 7 лет, его, по обычаю, отдали в  учение в церковную  школу.                                   Но и дома мальчик часто слышал молитвы и псалм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Обучение Варфоломе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97" name="Picture 5" descr="C:\Documents and Settings\User\Рабочий стол\сергий\817131.jpg"/>
          <p:cNvPicPr/>
          <p:nvPr/>
        </p:nvPicPr>
        <p:blipFill>
          <a:blip r:embed="rId1"/>
          <a:stretch/>
        </p:blipFill>
        <p:spPr>
          <a:xfrm>
            <a:off x="5173560" y="1905120"/>
            <a:ext cx="298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Народные игр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Издавна на Руси в по большим праздникам устраивали гуляние и игр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0" name="Picture 6" descr="C:\Documents and Settings\User\Рабочий стол\сергий\fatHfel0o-E.jpg"/>
          <p:cNvPicPr/>
          <p:nvPr/>
        </p:nvPicPr>
        <p:blipFill>
          <a:blip r:embed="rId1"/>
          <a:stretch/>
        </p:blipFill>
        <p:spPr>
          <a:xfrm>
            <a:off x="4648320" y="1986120"/>
            <a:ext cx="40384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Сергий Радонежский и его родител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Время шло, мальчик вырос.                                  После того, как умерли его родители,  мальчик был волен сам выбирать  жизненный путь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3" name="Picture 5" descr="C:\Documents and Settings\User\Рабочий стол\сергий\19383_t.jpg"/>
          <p:cNvPicPr/>
          <p:nvPr/>
        </p:nvPicPr>
        <p:blipFill>
          <a:blip r:embed="rId1"/>
          <a:stretch/>
        </p:blipFill>
        <p:spPr>
          <a:xfrm>
            <a:off x="5029200" y="2362320"/>
            <a:ext cx="3295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Построение  церквушки в лесу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29714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арфоломей вместе с братом отправились вглубь дремучего леса. Там они соорудили шалаш и маленькую церквушк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07" name="Picture 7" descr="F:\сергий\3.jpg"/>
          <p:cNvPicPr/>
          <p:nvPr/>
        </p:nvPicPr>
        <p:blipFill>
          <a:blip r:embed="rId1"/>
          <a:stretch/>
        </p:blipFill>
        <p:spPr>
          <a:xfrm>
            <a:off x="4876920" y="1981080"/>
            <a:ext cx="3389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648320" y="1905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арфоломей остался один.  К нему приходил старец Митрофан, который по его просьбе  постриг его в монахи  и нарек именем Серг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Подстриг в монахи и наречение именем Серг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28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1" name="Picture 9" descr="C:\Documents and Settings\User\Рабочий стол\сергий\1618.jpg"/>
          <p:cNvPicPr/>
          <p:nvPr/>
        </p:nvPicPr>
        <p:blipFill>
          <a:blip r:embed="rId1"/>
          <a:stretch/>
        </p:blipFill>
        <p:spPr>
          <a:xfrm>
            <a:off x="5562720" y="3962520"/>
            <a:ext cx="2057400" cy="2158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C:\Documents and Settings\User\Рабочий стол\сергий\cf0e6c632f57.jpg"/>
          <p:cNvPicPr/>
          <p:nvPr/>
        </p:nvPicPr>
        <p:blipFill>
          <a:blip r:embed="rId2"/>
          <a:stretch/>
        </p:blipFill>
        <p:spPr>
          <a:xfrm>
            <a:off x="762120" y="2057400"/>
            <a:ext cx="3581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Встреча Сергия с медведе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440" y="2209680"/>
            <a:ext cx="38228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ргий все время пребывал в одиночестве. Однажды он всю  зиму подкармливал медведя, выгнанного охотниками из берлоги, и зверь не тронул его, словно понимал, что  Сергий делится с ним последним хлеб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15" name="Picture 5" descr="C:\Documents and Settings\User\Рабочий стол\сергий\IMG_6893-vi.jpg"/>
          <p:cNvPicPr/>
          <p:nvPr/>
        </p:nvPicPr>
        <p:blipFill>
          <a:blip r:embed="rId1"/>
          <a:stretch/>
        </p:blipFill>
        <p:spPr>
          <a:xfrm>
            <a:off x="4645080" y="2209680"/>
            <a:ext cx="3965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ry</cp:lastModifiedBy>
  <dcterms:modified xsi:type="dcterms:W3CDTF">2022-03-20T12:30:4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